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F93-AF73-4759-9B9C-90EB13D8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2D9-9C7A-4083-B338-C91FE50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1AD-42CF-41D1-A97C-72C75488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EF5-9ED4-4416-B10B-E3B7DD33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9ADF-FF18-4742-9383-ADFC732C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063-5D08-4006-9771-D1B5B61F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C587-A8EE-4418-806E-4B00981C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1B81-2807-48FB-92D7-826F8938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ED724-632A-434E-8A05-5FA2DB37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41F41-A89C-4284-9E8B-FF2ABC6B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AF63-15B2-4965-B441-383F1A9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B9C2-9168-44C9-9565-0CB81502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764B-97AD-4494-AB5D-C736B4DF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CCE1-3A74-4EDC-A7B0-581E2B5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5823-BBF1-4BA8-9F8C-42133E6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274F-B05E-45D9-9B44-ED439C9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F566-C94B-4091-B270-BF53FEA7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7646-9038-4D91-8CBB-762CA2A3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E29B-C974-4BA0-A9B4-2CED12CA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AF9B-FE8E-46B6-91F2-1F65BD3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2C7C-0214-40C6-9891-027C736E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F797-38EA-44B6-A4A3-8D5F0595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901B-F184-41A4-BF5A-0CB054B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130-CE6E-4123-A365-2C8E9985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2FF7-EEEA-46C7-8A2C-A1A20DF6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5FB-8B77-4C35-A034-F58BA81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4840-5DC3-4E10-8826-609BE2C0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155B8-FB9D-49DA-84B1-4847532F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68E0-96AE-4B2F-AC77-B2D90E6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E1CF-0AAB-467B-8C63-63FD9E13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4D49-7D3E-470F-8840-B406E74A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274F3-4B87-4255-85E1-B60D5FB9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D837-CC6A-494F-B3BE-4B07D6DB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E936A-3466-4F10-B821-4761F36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EC52-DA7B-4356-8527-2372408B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BFEF-2396-4DF5-A9AD-7E406BD8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29D8-CDF2-4039-894C-EEEE0A88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EDEF2-7FAC-442B-8946-6C32525A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806FF-3654-44D9-9834-4F1F50F8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0F4E-D924-45D5-AB16-89AE3EF9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B15-2338-482F-8B3E-29CCD84A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C392-1613-40A0-B324-6FB8AD53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341D-2D75-4C3C-B44D-89D4CFEB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07D6-D979-4C39-A264-51C8E7DF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EAE1-98C8-410B-9FAF-4D40816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53B9-6107-4CDF-A824-9C1B559E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103-C439-45B4-B6C1-D4157349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3950-D87E-4C25-B1CF-258430D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9A0E-F04A-4AE7-A4F3-C3423D4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CF17-CBDC-4992-B023-D334C8AF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331F-FC23-4F6D-B18C-74DF3C5D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41C7-14BA-465B-81A0-9604DFB5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5255-D610-4973-9405-43E061CD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C4BE-6E6F-47EF-9BDA-6D4AB304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48C-79AA-4BFC-B8B7-225A9942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F04-26C7-4635-8F15-8258327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D6C-C9FE-495B-8AA7-953759FE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B6F-5474-4317-9C88-3AEABBC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C4FD-1414-422B-8337-103CB17B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8249-4074-4270-907B-CA73C3FA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536D-84BA-49D3-AF47-0F399A0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B452-213E-4C09-BDBD-CE89D31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AB4D-8195-4476-B1F6-3A86058A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6A49-08DC-4596-AC27-1FE5ACC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7D46-A711-49E9-8177-57ED9094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9BC-8FAA-4CDF-B008-6FFC9FEF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4BEE-6C9A-4E83-A731-8CE7DEA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E3CC-506D-4EE9-AEB5-8FFCE649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CD9E-3D13-4382-AE9C-44C826E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B616-2655-4C3B-A0A3-5608F4A4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332C-F752-48EC-863D-2E773C25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1D3-2C8A-4367-B976-9694F73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28560" y="366480"/>
            <a:ext cx="78868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8560" y="4099680"/>
            <a:ext cx="78868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736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0280" y="4099680"/>
            <a:ext cx="38487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9544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62320" y="182736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856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9544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62320" y="4099680"/>
            <a:ext cx="2539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FE0AA89-2B74-4C89-903D-21EBE344A85B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1"/>
          <p:cNvSpPr/>
          <p:nvPr/>
        </p:nvSpPr>
        <p:spPr>
          <a:xfrm>
            <a:off x="0" y="779400"/>
            <a:ext cx="9144000" cy="5908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BB4A-E5F8-485C-87F6-922AB58D98A2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"/>
          <p:cNvSpPr/>
          <p:nvPr/>
        </p:nvSpPr>
        <p:spPr>
          <a:xfrm>
            <a:off x="36360" y="36360"/>
            <a:ext cx="9071280" cy="6785280"/>
          </a:xfrm>
          <a:prstGeom prst="rect">
            <a:avLst/>
          </a:prstGeom>
          <a:noFill/>
          <a:ln w="108000">
            <a:solidFill>
              <a:srgbClr val="4ea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"/>
          <p:cNvSpPr/>
          <p:nvPr/>
        </p:nvSpPr>
        <p:spPr>
          <a:xfrm>
            <a:off x="51588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6"/>
          <p:cNvSpPr/>
          <p:nvPr/>
        </p:nvSpPr>
        <p:spPr>
          <a:xfrm>
            <a:off x="767880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0" y="779400"/>
            <a:ext cx="9144000" cy="5908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08F5-57CE-4E49-B20D-F346164DC24C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21E6BA0-8223-4034-BEC1-A7290EA78EE4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1"/>
          <p:cNvSpPr/>
          <p:nvPr/>
        </p:nvSpPr>
        <p:spPr>
          <a:xfrm>
            <a:off x="36360" y="36360"/>
            <a:ext cx="9071280" cy="6785280"/>
          </a:xfrm>
          <a:prstGeom prst="rect">
            <a:avLst/>
          </a:prstGeom>
          <a:noFill/>
          <a:ln w="108000">
            <a:solidFill>
              <a:srgbClr val="4ea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2"/>
          <p:cNvSpPr/>
          <p:nvPr/>
        </p:nvSpPr>
        <p:spPr>
          <a:xfrm>
            <a:off x="51588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767880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B99B725-B187-4B95-A763-D71EB9B08C34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0" y="779400"/>
            <a:ext cx="9144000" cy="5908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6AA0-F9AD-4CA6-BA87-D89AF5E5BCB5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微软雅黑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36360" y="36360"/>
            <a:ext cx="9071280" cy="6785280"/>
          </a:xfrm>
          <a:prstGeom prst="rect">
            <a:avLst/>
          </a:prstGeom>
          <a:noFill/>
          <a:ln w="108000">
            <a:solidFill>
              <a:srgbClr val="4ea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"/>
          <p:cNvSpPr/>
          <p:nvPr/>
        </p:nvSpPr>
        <p:spPr>
          <a:xfrm>
            <a:off x="51588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7678800" y="36360"/>
            <a:ext cx="181080" cy="513000"/>
          </a:xfrm>
          <a:prstGeom prst="rect">
            <a:avLst/>
          </a:prstGeom>
          <a:solidFill>
            <a:srgbClr val="4ea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6480"/>
            <a:ext cx="788688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28560" y="1827360"/>
            <a:ext cx="78868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文本框 3"/>
          <p:cNvSpPr/>
          <p:nvPr/>
        </p:nvSpPr>
        <p:spPr>
          <a:xfrm>
            <a:off x="1841400" y="3978360"/>
            <a:ext cx="61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博士</a:t>
            </a:r>
            <a:r>
              <a:rPr b="0" lang="en-US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硕士毕业论文预答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6"/>
          <p:cNvSpPr/>
          <p:nvPr/>
        </p:nvSpPr>
        <p:spPr>
          <a:xfrm>
            <a:off x="539640" y="25700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科学院大学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科学院宁波材料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2"/>
          <p:cNvSpPr/>
          <p:nvPr/>
        </p:nvSpPr>
        <p:spPr>
          <a:xfrm>
            <a:off x="0" y="-27000"/>
            <a:ext cx="914400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12" descr="中国科学院大学（横式）"/>
          <p:cNvPicPr/>
          <p:nvPr/>
        </p:nvPicPr>
        <p:blipFill>
          <a:blip r:embed="rId1"/>
          <a:stretch/>
        </p:blipFill>
        <p:spPr>
          <a:xfrm>
            <a:off x="298440" y="476280"/>
            <a:ext cx="3119400" cy="684360"/>
          </a:xfrm>
          <a:prstGeom prst="rect">
            <a:avLst/>
          </a:prstGeom>
          <a:ln w="0">
            <a:noFill/>
          </a:ln>
        </p:spPr>
      </p:pic>
      <p:sp>
        <p:nvSpPr>
          <p:cNvPr id="832" name="矩形 14"/>
          <p:cNvSpPr/>
          <p:nvPr/>
        </p:nvSpPr>
        <p:spPr>
          <a:xfrm>
            <a:off x="0" y="5624640"/>
            <a:ext cx="9144000" cy="12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5"/>
          <p:cNvSpPr/>
          <p:nvPr/>
        </p:nvSpPr>
        <p:spPr>
          <a:xfrm>
            <a:off x="1584360" y="6099120"/>
            <a:ext cx="56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×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年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×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月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×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3" descr=""/>
          <p:cNvPicPr/>
          <p:nvPr/>
        </p:nvPicPr>
        <p:blipFill>
          <a:blip r:embed="rId2"/>
          <a:stretch/>
        </p:blipFill>
        <p:spPr>
          <a:xfrm>
            <a:off x="3727440" y="260280"/>
            <a:ext cx="25686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4:03:53Z</dcterms:created>
  <dc:creator>俞红唐</dc:creator>
  <dc:description/>
  <dc:language>en-US</dc:language>
  <cp:lastModifiedBy>尔斯格 温</cp:lastModifiedBy>
  <dcterms:modified xsi:type="dcterms:W3CDTF">2024-09-04T02:42:39Z</dcterms:modified>
  <cp:revision>497</cp:revision>
  <dc:subject/>
  <dc:title>幻灯片 1</dc:title>
</cp:coreProperties>
</file>